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6F6-87BD-457E-87BF-F3887CC8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614-EE3F-4E4E-B137-05AB1C54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A87-BC50-4F29-9730-7136799E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7BA-E972-4B53-9C4B-EF2361C8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AD1B-025B-4221-BE7B-2904DE2D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8CBC-1C3F-44FA-AFE3-833CD343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90AC-DDD0-4F6F-A22F-F4DF2EFE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0D6C-A33C-4B63-BF09-17248A10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EAB6-10AD-4BF9-B1B5-EA39DDEB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CA03-BE9E-417C-B4F6-5ABDB902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98F4-8410-474F-87C2-E297FAA3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271-6761-40CC-A48D-8C47767A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36A2-6ED8-4453-9BCC-BEB6A0BB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C784-6813-40F2-8E23-F3170068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8F26-9F90-4706-8258-161A70BA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CA15-BBF0-4C1A-AEAC-19125495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F3E9-1229-4676-92F9-13F03455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FEB-5546-434B-A370-241190B5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CA80-A350-4D4E-B127-D624AEA2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088-0D53-4029-84BA-9E0D6249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6B7-E4C8-4201-84C4-8194516F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CF6-111D-4134-A22D-DB8E7B7E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731F-09E0-41CD-BB90-3A01898A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26D-C2C8-4097-A61A-0B1D4167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94BE-85F4-4473-B066-200BF4F974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C056-F3EA-47B4-9CBA-557E63ADA7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History of the Ce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07-00-Cell.jpg"/>
          <p:cNvPicPr/>
          <p:nvPr/>
        </p:nvPicPr>
        <p:blipFill>
          <a:blip r:embed="rId1"/>
          <a:stretch/>
        </p:blipFill>
        <p:spPr>
          <a:xfrm>
            <a:off x="1447920" y="2438280"/>
            <a:ext cx="601956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lix Dujard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name the jelly-like material in a cell. Called it sarc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code was later renamed protopla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2895480" y="3733920"/>
            <a:ext cx="30481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thias Schleid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conclude that all plants are made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781680" y="3809880"/>
            <a:ext cx="1771920" cy="2189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3200400" y="3886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609480" y="350532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odor Schwan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conclude that all animals are made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635880" y="2643120"/>
            <a:ext cx="63360" cy="101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3048120" y="38098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6095880" y="3809880"/>
            <a:ext cx="2819520" cy="1900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[Theodor Schwann]"/>
          <p:cNvPicPr/>
          <p:nvPr/>
        </p:nvPicPr>
        <p:blipFill>
          <a:blip r:embed="rId6"/>
          <a:stretch/>
        </p:blipFill>
        <p:spPr>
          <a:xfrm>
            <a:off x="457200" y="3429000"/>
            <a:ext cx="203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dolf Virch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572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5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s reproduce: that is where new cells come fr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cell exists, there must have been a pre-existing cell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Image:Rudolf Virchow.jpg"/>
          <p:cNvPicPr/>
          <p:nvPr/>
        </p:nvPicPr>
        <p:blipFill>
          <a:blip r:embed="rId4"/>
          <a:stretch/>
        </p:blipFill>
        <p:spPr>
          <a:xfrm>
            <a:off x="5361120" y="1981080"/>
            <a:ext cx="2765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e Cell Theor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All living things are made of cells. (Schleiden = plants, Schwann = anima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Cells are the basic units of structure and function in living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New cells are produced from existing cel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Virch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king a 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ct a timeline of the people involved in the discovery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name of the 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year of their disco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what their discovery w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are these cells the same and how are they differ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04920" y="1600200"/>
          <a:ext cx="319860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31986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962520" y="1600200"/>
            <a:ext cx="1447560" cy="2189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07-04x2-EColi.jpg"/>
          <p:cNvPicPr/>
          <p:nvPr/>
        </p:nvPicPr>
        <p:blipFill>
          <a:blip r:embed="rId4"/>
          <a:stretch/>
        </p:blipFill>
        <p:spPr>
          <a:xfrm>
            <a:off x="1219320" y="4191120"/>
            <a:ext cx="2528640" cy="2189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H="1">
            <a:off x="11412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486400" y="4267080"/>
            <a:ext cx="2990880" cy="2243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5867280" y="1523880"/>
            <a:ext cx="304812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c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ell is the basic unit of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ell is a structure within a living thing that has a boundary surrounding the material in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590920" y="3429000"/>
            <a:ext cx="419076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small is a c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07-01-CellSizeScale-L.gif"/>
          <p:cNvPicPr/>
          <p:nvPr/>
        </p:nvPicPr>
        <p:blipFill>
          <a:blip r:embed="rId1"/>
          <a:stretch/>
        </p:blipFill>
        <p:spPr>
          <a:xfrm>
            <a:off x="3048120" y="1219320"/>
            <a:ext cx="3252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were cells discover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sts were curious about what living things were made o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ey created microscopes to take a closer look at living th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019920" y="1600200"/>
            <a:ext cx="2036520" cy="2036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095880" y="41148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ere the main people involved in the discovery of ce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5181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on van Leeuwenh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rt Ho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ix Dujard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rt B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ias Schlei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dor Scwa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dolf Virch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ton von Leeuwenho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0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see and describe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a simple microscope (one len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tiny living organisms in a drop of pond water (“wee beasties”)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1143000" y="4359240"/>
            <a:ext cx="2584440" cy="2325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4343400" y="4300560"/>
            <a:ext cx="42670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bert Hoo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6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use the term, “cell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a compound microscope (2 lens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a slice of cork (dead cell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d for seeing, describing, and explai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6324480" y="1600200"/>
            <a:ext cx="1737000" cy="2189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6095880" y="3886200"/>
            <a:ext cx="2319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bert Bro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identify 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ed that nucleus was doing something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1495440" y="4038480"/>
            <a:ext cx="1876320" cy="2590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4419720" y="4038480"/>
            <a:ext cx="2590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03:05:11Z</dcterms:created>
  <dc:creator>Theresa DeLaurentis</dc:creator>
  <dc:description/>
  <dc:language>en-US</dc:language>
  <cp:lastModifiedBy>Theresa DeLaurentis</cp:lastModifiedBy>
  <dcterms:modified xsi:type="dcterms:W3CDTF">2007-03-04T05:40:08Z</dcterms:modified>
  <cp:revision>14</cp:revision>
  <dc:subject/>
  <dc:title>Are All Cells Alike?</dc:title>
</cp:coreProperties>
</file>